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7B4-E8B1-440C-B9B8-A3C3737C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80D-3897-4ACC-BC70-F94A1F3E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24C-98D7-4907-8016-BA4FA5F5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C01-79F7-40EA-9875-A1B5EF91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096-1AFC-46B1-B05D-82F4F062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5E9-ABA7-4CDD-A00C-1D28D6E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718-8FAA-4C4A-A978-5E8CBE9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DC5-AD67-4C97-969E-A2C75ADA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F4C-9C59-4A06-89FA-79DCDAF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8A0-B0EB-412D-8A02-171CDA0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86F-2637-49C2-A58F-8A2AFA3F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09D-F095-49A6-899F-5A40DE3A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46E0-EFCB-406A-B0E7-18703112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asslefreeclipart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rsbible.inf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ithsroom.com/downloads/resurrection%20eggs.pd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head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Reading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room teacher to provide actual test sc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6668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190760" cy="22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514760" cy="240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133720" y="152388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Enjoy you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Summe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Safety c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 Cool and Jo F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I: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ing Compute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Output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and Replacing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ing Internal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ing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ting them back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2286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146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1240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5335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322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. 28- March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ictograph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 Research Project: African Country (con'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yclopedia J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 for 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's Love Letter (6 min.)- Give handout to take ho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0212" r="0" b="6250"/>
          <a:stretch/>
        </p:blipFill>
        <p:spPr>
          <a:xfrm>
            <a:off x="1523880" y="0"/>
            <a:ext cx="6248520" cy="297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880" y="4572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ebruary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boarding- Working in Microsoft Word, create columns, and add numbering. Keyboard cover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oks of the Bi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OLD TESTA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200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remember the new keys, x, z and '? Do you remember the new keys, x, z and '? New letters! First a full stop - . - use your right hand ring finger, the same finger as for l. Now for the forward slash - / - use your right little finger - the same finger that you use for ; and 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mithsroom.com/downloads/resurrection%20egg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eg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cut and paste the bible verse from the above web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custom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6672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jose monteiro</dc:creator>
  <dc:description/>
  <dc:language>en-US</dc:language>
  <cp:lastModifiedBy>Dawson</cp:lastModifiedBy>
  <dcterms:modified xsi:type="dcterms:W3CDTF">2011-08-30T03:38:09Z</dcterms:modified>
  <cp:revision>6</cp:revision>
  <dc:subject/>
  <dc:title>August</dc:title>
</cp:coreProperties>
</file>